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A94A-9E24-408F-83DD-CF6B4260F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B5FE-EAAC-4696-8F06-CC43DEE06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0D5E-4F14-4015-ABD0-3526BB518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9B23-9F3E-4395-9F46-6E10EECA5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A623-7B32-46DB-A726-C008ACF4D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18C8-687A-4C41-B3E1-79204C4F7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2A8F-E284-4102-9284-CD6B04391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3DD3-254C-459E-9922-AE7124C4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5833-86A8-499F-9AB8-123E9C955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39A-FAF7-4984-AAF0-EC30AD5C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0D6-4360-41C3-95EF-4FE723B1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322-4DD9-427B-B91C-57B6947F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F98-1223-494E-A872-EEF7D78B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27E-C9F5-4ABE-AD96-496A6828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71F-25F2-4EC5-805C-E3CBA1A5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705-5FC9-4829-909E-4DBB2C8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A98-09A2-4348-90A1-C802C656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1BE-A45C-44E4-89C2-89CD772B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F00-E38F-4A34-B7E0-594F326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2AE-4903-4248-8360-5B5114C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628-0CFD-411A-AB90-5D0AAD2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3B49-77B8-4F0C-9374-F16CE5555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1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8" name="Picture 4" descr="FIGURESCIRCACTIVITY.png"/>
          <p:cNvPicPr/>
          <p:nvPr/>
        </p:nvPicPr>
        <p:blipFill>
          <a:blip r:embed="rId1"/>
          <a:stretch/>
        </p:blipFill>
        <p:spPr>
          <a:xfrm>
            <a:off x="-7632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7391520" y="914400"/>
            <a:ext cx="1752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face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un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and label the types of ener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5:46:14Z</dcterms:created>
  <dc:creator>Julie Libarkin</dc:creator>
  <dc:description/>
  <dc:language>en-US</dc:language>
  <cp:lastModifiedBy>Nicole LaDue</cp:lastModifiedBy>
  <dcterms:modified xsi:type="dcterms:W3CDTF">2010-12-20T17:19:14Z</dcterms:modified>
  <cp:revision>303</cp:revision>
  <dc:subject/>
  <dc:title>PowerPoint Presentation</dc:title>
</cp:coreProperties>
</file>